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62C3A-C140-44F1-9F94-9C8A74CBE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F837-D733-48B6-9F08-FB0F0E17F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9267F5-5F3A-4313-8BB8-85CC40E93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43A172-C836-483C-9176-6B8FA20F3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3F4B2C3-8BDA-41D9-BEED-3A48EFCCD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335E2C9-34A5-4999-A049-CD6B3973F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4FEA234-7F2A-4FCF-AF5A-F3E55CAEE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BC01DF-F842-4FE5-A30E-F30E7012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ED883A-FDCC-4956-BA87-369BDAA63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4C9B3-B761-4ACE-9BED-EF24669E9A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93F46CC-9150-4B20-B154-135546EFF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BB816B9-6AD3-4205-AC6C-F9D4F4ABD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76F9-73D2-46CF-9850-A71779362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C66A021-0F8D-46AD-9B39-C71B5D7CF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4DF86B-3E3E-4885-9972-6A0F5A8E6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F138A-CC88-4EF7-A686-95248281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90E8BB3-5EF6-4A8A-B267-BA0FD7BF8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AFEE98-B14D-47A1-9C10-93EFAD25F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88FC11-8780-4EE5-9E30-AE723A328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756B88E-3EBA-4F1B-8543-DEDB6F14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2994A62-2F1A-44E7-B879-3234F448E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7E5986-E888-4B70-8801-4BDA6EDEFD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95D89E3-9A84-4DB8-8962-99BD1995A3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3275-B778-486F-A5E4-8A0B14CC4F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C5E2D8-50CD-4445-BBB8-8676DF1DA5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789EA7-1CC1-4E15-92C2-956CFBF1A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66463D-0752-4956-8041-F4CF0E154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C0A722-981C-4155-873A-05D212380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04A807-892A-4F7C-81E0-C73B99922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75FEB3D-FACF-4272-AA0E-3CA2D665E9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C25179-0B55-43CE-80C3-40EEC9D510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44EE202-9056-4F46-8A61-982F170FB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A29096D-58D4-46F0-BA4D-4585178E7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EFA93B-D01E-41D8-8DCF-C304B699A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F230BB-F6B8-4865-8EC0-6E3F0839B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2E285-EBBF-4208-B0F4-8B9A4CE90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1A2ECDB-663C-4E00-B81F-83327E2AE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FBEF7B-E36B-4251-8126-62C1E0620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70EA2B-9BA3-4FCC-9299-762409BC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C40D4FA-4BF8-4E14-A55E-EA10F3258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0EF5E4-02BF-43EF-AAD0-B80EC4947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37C0D2-9B4F-4DCF-83D6-45A5032E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48EEB71-8FFC-43BD-9362-ED649895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953FD7-740C-4BAC-9C5E-0D075525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87C41A6-8C29-41F3-A6F5-630F3FA4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1CB7-7D7F-48C5-93BE-3FF9A342A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ED4F0A-750D-4A08-8216-E7432ADED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09F9BCD-3AB0-47AF-8955-EF4495865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66696-7FB2-4449-82AF-CFB896D0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53C35C-394D-4641-A419-60D6A2DA7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88811A-197E-45AB-8834-475EDE3BF5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ABAC0D-4147-4443-AB85-EE2A526D7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177AC-DF6C-40AB-B076-FB05CFF8C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E327BB5-A179-48DD-93F2-D517DA3A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6A913F-8E4E-4713-866C-ED1F34B63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73E1EC-EEA4-4810-9463-571CD0CF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356B-F76D-49F5-86DD-8B292AFF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665359-C6F5-4873-96C2-44D07FB2F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5123BBF-B2EA-4FF0-BF7D-2AD37D455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E173DB9-5456-40EE-B54A-2DA473268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0E06B5-3F06-4E24-9EF6-FAF0C77C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0BD4331-3BE6-47DC-9167-7E426C6FA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2BB62C-9E52-4DE7-8F8F-AB5E89E86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F09463-E4C0-4091-A4CB-1BADAC9D9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E81BC9-0542-4AF9-9B68-69E1A6F5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95D9BA-B484-41BF-B35F-F3AE618BB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EB7661-D0AC-4573-A318-2BDDFB0F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38CE1-01A9-49B3-9BEE-AF538321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53C3924-657C-4551-BF5F-BE3D51817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9C4946C-037F-42AB-875F-DE18D8513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69DDE4-B8D2-42C9-AC7F-51F51D4C0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58623A-5335-4BEE-B1B5-254BC6F2B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B20056-3D00-4F7D-AEE4-E3C844EA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02840F-0770-4293-BABF-8A8A5E864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1D85FD-CAB2-4796-AE84-FCB56F994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8B6108A-BF8F-44C6-B80D-1318CBCCF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DB4C12-1213-41AF-98F8-C57BFB0B6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2F96D7-3AB8-4F85-B14E-B452ACFAF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74E6-FA5B-4118-A435-C192B557E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33D35E9-C09A-4B3F-ADCB-F7E95928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43F8960-0825-44E7-989D-B4681B7A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02AF13-5E18-411B-B89D-1CC824C0E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ACAD08-CF6E-4F76-84DB-3C800C799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815517-9E63-4B96-8E4D-77998E21C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73EB2D-C5B6-4FCD-B9EF-F465E80E2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A9AB854-809C-418A-86E6-95877E021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D40262-6616-4A55-8B16-85760D41E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5D16701-1838-4127-9E50-D8D97B195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ACD967-5F88-452A-BCE2-EC08E32DF4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7E6D6-767B-4E1C-B038-3BD109E1F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69ED7-3201-427E-A74A-D2804B78F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E0A7AC-170F-4679-97AE-4BEAAB8B1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6E87CC-EC93-4194-9A02-A201DAD122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71F2DF-F15C-49A5-8E7E-A32B07F3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BB4F56-415A-4852-B27F-AAB7CF300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897020-144B-4301-AEB7-FF643A8A3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D563025-2DA6-463C-BDB9-48875F9F4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79B3A1-6057-4B2F-8B9E-4BB5EAC1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3536DF5-B551-4C14-AA35-8F16189E7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CA86817-FB88-491E-BD68-CA4DFAB2F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363778-8F1E-4A93-B851-82CE4ED00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D56870-13AE-486E-91A4-9C3BC24CC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1B8797B-759C-4119-9E7F-5604B07A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3EC2932-CFD7-4C80-BB43-50F17F0C1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72A715-0687-4B6E-BC32-CA939B2CA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13917A-D3AE-4BB8-8A2A-1C0EA3396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1D4336-B46E-4197-AEEA-1700783FE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F50D46-FCE5-4E1D-B382-83DD7BAF3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B57ACD7-3AC1-422E-8251-9EB66FF7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E35115-C7D1-4112-8765-CCBF55C85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FBC5F1-C3D2-42CF-977B-5708E5E7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CF95-195B-43C9-A319-B51A44CC0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98751-738B-46A8-963A-8E244E824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EF9C8F9-843C-4251-B04A-6F6EFC5E0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AF9C2-5B0C-4E80-A3B1-4CD4FA0AF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671A816-8BCE-455D-85BC-0A0325998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297FF48-C541-4592-B4D9-7BD08F81F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EFD37A8-9CD6-45A8-AD1D-B981EA965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8E1F0A-2779-46B4-B4CD-75D52FE10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4AB0F58-92AB-4B81-A5CD-350912E5B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2E24B0-141A-43B1-9216-289C8075B5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DA87F9C-68D0-4C13-B077-4EE9CBB42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B9AEF7-346F-4585-BBE8-B836AF9D9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A26EEB-EC2B-4985-BB85-C96B5C22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8B3EEE-A9B1-42F5-BDC3-9FD0A248C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C592EF4-9F27-4A82-BBB6-98307B3F5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47BBEB9-FD04-4860-8AE2-CD8CB5272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9CD28D-9DD4-47FF-92DA-04BFF3B9A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B8A329-74BB-4E8A-AB50-C339D9EF7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08B3EE-EC57-4B1C-BF98-93EE2ED2E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C3C1E2-ACD4-435E-9CE9-39ACA398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D2EA526-07C0-4DFB-87AF-6221E0317D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54B4EB-4228-49F4-A72A-A4AA82C3E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1677802-9FFC-43BF-836A-9FC3C71A8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794841-2833-4A41-B9C3-DD18428F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13DCF9-F295-49FF-B756-D44681D46F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CC3938F-C6FC-4EE9-9C51-586C3E70F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034623-2230-4F93-B5DC-E79D58C6F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82DAC9D-AB64-4CC5-B107-755DEAD79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06454BE-38D9-4721-B2D9-8C968A239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29B976-9782-40F7-8F7E-1F50EA74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61317-C0F2-4E08-9FD3-D94910902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BC33E51-86E4-4C1C-8CBA-DC580400C6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FC9C5FA-F2B1-4431-B8B7-02729A10B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D79D525-A334-4CCA-8978-CABF3E453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A1C98-7689-4E08-A234-B102916521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B2B98F4-AA69-441E-A88B-4ACEAB84D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D45FF58-CCE8-4099-B461-50434651E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273299-9A77-493E-8141-B69DFFC15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0C3D62-EACD-4E15-9188-F9F6EB82E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176D6E-F5BF-4942-8539-45395B986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E8D2BC-3911-475A-8404-85B1B923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934D3A9-DF15-4852-8090-718ED1B68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40B1516-719D-4D10-ADE6-AAB7C385B0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A7ABC6-06FF-415B-B6AA-AC4726A1D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FF750B-ADF8-4410-88CD-0B3807423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4A0BE-ED8F-4B0D-8E5B-8CA676FA1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CF3CBFD-8A8C-4821-9930-FE506F7C6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4C7EBB-185C-4072-8554-61CF00CB8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D9C4EF9-5DA9-43B9-8037-FD4D590F7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04C013-C83B-4535-A02F-138FE0E77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A08446-72F4-467C-9628-35538E4D4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C17544A-9420-4F0D-8AD6-76620C28D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9B0BAD-D141-4515-B3A2-D128A2982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A3AEF7-A2D2-4A32-9F84-FA282D9A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DE8031F-6CBF-4BE8-82CA-AD3216075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0C281D-3E70-4728-86F9-E928DB31B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A0893-9906-4091-94D2-F11F262D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8B45EB-1ABA-4E7B-85AA-3222638C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794655D-C40C-4935-83D5-57914E65C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79DE99-0D62-4EE4-9810-B43644F07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1A14B-C551-4F72-943B-223A13DE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A85A65-001A-4CFF-A3A3-B76EE4E87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D9637-6E5A-4DEF-9B76-7DE7D0E1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357A19-9762-4A22-8697-93800D430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E4AA-BA03-44C7-B999-31E760E4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F70DC2-A46B-4C90-82FF-2E1A67129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44535A-0D8D-40E4-9D73-F24846D22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4ED991-27A5-45FE-ACC1-DFB568FA4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A32D8C-792B-444B-B663-8146B9DC7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DB9612-4C14-48D1-9181-1898E8089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78F79A-15AB-4B43-8ACD-5294D4D8C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84666F-8EC6-4EC9-A80C-1AC4FA779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274786-A2FF-42A8-97F0-A3BBB54619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D44873-8873-4A1C-9824-B99643DC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238EBA-3BC3-4903-91EC-0A25E8504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8743C-3FF8-430A-B2CD-063F313EE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F0301E-A38C-496F-AC02-5D300CE30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6EED01-245D-496C-BC27-3CECBA81F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6A3E8D-6523-40C6-9928-EFEDB071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E52ABC-1D8B-4E35-ACF2-995935B0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1B3157-B41C-46D2-83E1-BAF8E6AD3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276FC5-610F-4F2B-A82E-165368C23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74681-364D-4042-BEF8-87B4A7BDD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82A15B-85DB-43E7-9AAC-F2367709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9E675-4D91-4FEC-8708-BCC3AC7C3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8E806C-54B1-42D1-94B5-EB12BF7826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F1D7-53DE-47B3-ACF8-98D110620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3AC0F0-2723-4A0D-B06D-A848DE5DF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EC7B1D-907C-40B9-B3E4-1CD802801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99CD89-22B7-46F9-808F-6F09C6CBF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B4535-7FE0-45A2-BD79-163EB67D7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6783BD-FAE9-48BD-A84C-CC4BE39C5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D18E16-1D5B-4AB7-8AD2-1D1103549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468590-3CF0-464F-894D-B3CF854DD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AC370B-54AB-4B50-98EE-61F7A7A64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4DAAA-23CB-4466-819E-59B9D21D2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D001E-81D8-4ADB-AD56-7CC627B3F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E42CB-FD51-4EC4-90B6-4CB42F5E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19B999-62E9-4D37-969F-82BA5EED35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DD2503-0620-46CA-9A85-C7357FE1E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E28129-7F2D-4B55-9EDB-0C48CEFA3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4D1174-C842-425A-885C-AB96B1D7F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7C1175-E75B-4107-B7D3-235D2B77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BB0082-A772-43E9-A899-D62A33A00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6EA5F4-576A-4969-A187-41CE34083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73FD50-9040-451E-BC57-1C2175826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51B76EC-48F8-469A-8022-962DCAE4D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D16BDB-E77C-4433-85FA-137B49C8A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5FF8E-A276-47F1-AECB-8E43081A8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8554EF-34F6-4BF8-A30E-02AF5F4D0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229552-3961-424C-9DE8-0D1FD7392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7BAAE4-DAC6-443F-B04C-4EDC21529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3903F2F-7119-413C-9231-CB7555C01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01473-B35D-437F-8B7D-111A745A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5E8A08-CCBF-4091-92E2-6020ABFEB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DD2963-0A64-4981-8647-1BE45C1BA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66C72D-EACD-477A-A865-50CFAC020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86388A-65F0-49FA-8B95-792B1C474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6BA0EB-6E11-482E-BBD6-DE55F7427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0FA6-1F37-451A-B702-012CA54E0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12040DE-72FB-4F0B-8DAF-C060BD2ED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8604E4C-0A9E-4809-B75B-53286CC0B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912A8F-6D56-4706-B2DB-1505B9CF2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666490-CC34-4844-8390-932F6F946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4CD89C-D24B-46A7-81E8-B5C98DE78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C1173C-B20D-4134-A104-3C0EA496F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073BAF-8CD3-41BB-83DC-A1B69106E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DC1214-90C4-4FE6-8DEA-812E25D9BE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BFA2D-D7E6-4A14-A76E-B5D8E627C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78E7C1-D688-4B48-88DE-B863BE55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6EF9-3431-4216-B8D7-218C6110C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52444E-2ED9-4DD2-9120-4123BDD7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EEA41-B2B1-474A-9CBF-FCA2A6E14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B9AF55B-A9A5-441B-98B1-CBAF59144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6ED043B-7D62-4CB5-B45D-4FC9C2FD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9D9AA0-73CF-435B-A519-EF5F8F127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D48F8DB-0504-476E-A922-0BB366776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580EB5-98A5-4281-8C99-25F8149460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CD57D4-CEB8-4513-B1B8-5FD242537B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9C232B-1BC6-4FCA-A742-C047DB34D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5CC5C-38A1-4B9F-9E29-9F75C9FE2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CB14-594C-43A8-AFE5-EDD6FCC248B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C16D6-7550-4F2B-B05E-8C29F8A129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FE749-BBF3-4075-8F4E-76B9B4D3FE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28B03-5574-49F4-BE38-67114EE890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24889-BB3F-4862-BEAA-9F38F211E1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FAA01-6309-46B2-9A5E-AC9F2F7A1B3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BDA2-ECE6-40BC-BF8A-55BF1EB7EB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9876-1059-4A82-A16B-A6102206173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FAEAF-4865-4D73-A1E2-A4CDC7FC38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7679C-1D65-4B0C-A5BF-85309A71298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E50BA5-9797-479E-BE85-34478775B84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961FF-B21C-477B-AA7D-8C999977E8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5BD50-AF74-4EFA-8C82-1595DFC2B6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7343-FADD-4C33-9663-078E993F918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2E30F-D7C3-4EB9-94D2-F5865C975F7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899D-622B-4A12-9DB6-FF3323C9950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B26E3-703B-494A-93C8-6AFF08D028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14010-F38D-4DE9-BEC2-46B236053A8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FB408-8C5C-4872-9E30-F1C7364BC8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3FC73-F22C-45E3-8921-6FF2074676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5D5DFE-72D7-47FD-809F-D8C23813CFA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936EB-A0D6-4FBC-9866-915690FB660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43585-5D93-4912-B91E-1A9A250AFBF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502E7-2969-4124-B6F1-8A00AED49E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7FF8F-C3FA-4959-8214-C3FB3C6168D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04A6D-5883-4E67-BFEC-A6A172A8F2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69617-F9AB-45CD-BB57-7024D2C38B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CD25A-56F8-40DC-97C8-42D89054F22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DD5BC-A86F-4E61-82FF-8BA27BC4D61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2E299-B089-4079-B720-F6797A676D6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85D18-CFE7-41A4-BA65-F43C1A41C6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BBD5F-E629-4B71-9965-E898687B52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3D5ED-D790-4488-84DF-4CE795D662E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02FA6-47C0-4F51-810F-B60A4B9C755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CB0EA-A357-4F45-997C-0465F37087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0627B-CAE0-46B9-9C9D-B62F529C8FC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5D0A1-E87E-495B-A172-B0937D28BE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5A55C-EC44-42BE-B6FE-487D51980FA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F3181-CCA9-4F70-A7B8-3B742DBF122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598A8-EF29-4E8E-8A84-96284788B73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image" Target="../media/image10.png"/><Relationship Id="rId15" Type="http://schemas.openxmlformats.org/officeDocument/2006/relationships/image" Target="../media/image10.png"/><Relationship Id="rId16" Type="http://schemas.openxmlformats.org/officeDocument/2006/relationships/image" Target="../media/image10.png"/><Relationship Id="rId17" Type="http://schemas.openxmlformats.org/officeDocument/2006/relationships/image" Target="../media/image10.png"/><Relationship Id="rId18" Type="http://schemas.openxmlformats.org/officeDocument/2006/relationships/image" Target="../media/image10.png"/><Relationship Id="rId19" Type="http://schemas.openxmlformats.org/officeDocument/2006/relationships/image" Target="../media/image10.png"/><Relationship Id="rId20" Type="http://schemas.openxmlformats.org/officeDocument/2006/relationships/image" Target="../media/image10.png"/><Relationship Id="rId21" Type="http://schemas.openxmlformats.org/officeDocument/2006/relationships/image" Target="../media/image10.png"/><Relationship Id="rId22" Type="http://schemas.openxmlformats.org/officeDocument/2006/relationships/image" Target="../media/image10.png"/><Relationship Id="rId23" Type="http://schemas.openxmlformats.org/officeDocument/2006/relationships/image" Target="../media/image10.png"/><Relationship Id="rId24" Type="http://schemas.openxmlformats.org/officeDocument/2006/relationships/image" Target="../media/image10.png"/><Relationship Id="rId25" Type="http://schemas.openxmlformats.org/officeDocument/2006/relationships/image" Target="../media/image10.png"/><Relationship Id="rId26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image" Target="../media/image10.png"/><Relationship Id="rId11" Type="http://schemas.openxmlformats.org/officeDocument/2006/relationships/image" Target="../media/image10.png"/><Relationship Id="rId12" Type="http://schemas.openxmlformats.org/officeDocument/2006/relationships/image" Target="../media/image10.png"/><Relationship Id="rId13" Type="http://schemas.openxmlformats.org/officeDocument/2006/relationships/image" Target="../media/image10.png"/><Relationship Id="rId14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2290680" y="3224160"/>
            <a:ext cx="4562640" cy="4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357120" y="828720"/>
            <a:ext cx="8429760" cy="5200560"/>
          </a:xfrm>
          <a:prstGeom prst="rect">
            <a:avLst/>
          </a:prstGeom>
          <a:ln w="0">
            <a:noFill/>
          </a:ln>
        </p:spPr>
      </p:pic>
      <p:pic>
        <p:nvPicPr>
          <p:cNvPr id="923" name="Picture 1" descr=""/>
          <p:cNvPicPr/>
          <p:nvPr/>
        </p:nvPicPr>
        <p:blipFill>
          <a:blip r:embed="rId2"/>
          <a:stretch/>
        </p:blipFill>
        <p:spPr>
          <a:xfrm>
            <a:off x="163368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3"/>
          <a:stretch/>
        </p:blipFill>
        <p:spPr>
          <a:xfrm>
            <a:off x="3851280" y="206064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4"/>
          <a:stretch/>
        </p:blipFill>
        <p:spPr>
          <a:xfrm>
            <a:off x="5940360" y="213372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5"/>
          <a:stretch/>
        </p:blipFill>
        <p:spPr>
          <a:xfrm>
            <a:off x="8229600" y="207504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6"/>
          <a:stretch/>
        </p:blipFill>
        <p:spPr>
          <a:xfrm>
            <a:off x="1619280" y="25938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28" name="Picture 1" descr=""/>
          <p:cNvPicPr/>
          <p:nvPr/>
        </p:nvPicPr>
        <p:blipFill>
          <a:blip r:embed="rId7"/>
          <a:stretch/>
        </p:blipFill>
        <p:spPr>
          <a:xfrm>
            <a:off x="3836880" y="252108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8"/>
          <a:stretch/>
        </p:blipFill>
        <p:spPr>
          <a:xfrm>
            <a:off x="5925960" y="2593800"/>
            <a:ext cx="360720" cy="32076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9"/>
          <a:stretch/>
        </p:blipFill>
        <p:spPr>
          <a:xfrm>
            <a:off x="8028000" y="25351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10"/>
          <a:stretch/>
        </p:blipFill>
        <p:spPr>
          <a:xfrm>
            <a:off x="166356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11"/>
          <a:stretch/>
        </p:blipFill>
        <p:spPr>
          <a:xfrm>
            <a:off x="3751200" y="29527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12"/>
          <a:stretch/>
        </p:blipFill>
        <p:spPr>
          <a:xfrm>
            <a:off x="5970600" y="2997360"/>
            <a:ext cx="360360" cy="320400"/>
          </a:xfrm>
          <a:prstGeom prst="rect">
            <a:avLst/>
          </a:prstGeom>
          <a:ln w="0">
            <a:noFill/>
          </a:ln>
        </p:spPr>
      </p:pic>
      <p:pic>
        <p:nvPicPr>
          <p:cNvPr id="934" name="Picture 1" descr=""/>
          <p:cNvPicPr/>
          <p:nvPr/>
        </p:nvPicPr>
        <p:blipFill>
          <a:blip r:embed="rId13"/>
          <a:stretch/>
        </p:blipFill>
        <p:spPr>
          <a:xfrm>
            <a:off x="8217000" y="2938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14"/>
          <a:stretch/>
        </p:blipFill>
        <p:spPr>
          <a:xfrm>
            <a:off x="166356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15"/>
          <a:stretch/>
        </p:blipFill>
        <p:spPr>
          <a:xfrm>
            <a:off x="3767040" y="3398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16"/>
          <a:stretch/>
        </p:blipFill>
        <p:spPr>
          <a:xfrm>
            <a:off x="6083280" y="3429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17"/>
          <a:stretch/>
        </p:blipFill>
        <p:spPr>
          <a:xfrm>
            <a:off x="8231040" y="337032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18"/>
          <a:stretch/>
        </p:blipFill>
        <p:spPr>
          <a:xfrm>
            <a:off x="755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0" name="Picture 1" descr=""/>
          <p:cNvPicPr/>
          <p:nvPr/>
        </p:nvPicPr>
        <p:blipFill>
          <a:blip r:embed="rId19"/>
          <a:stretch/>
        </p:blipFill>
        <p:spPr>
          <a:xfrm>
            <a:off x="1763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1" name="Picture 1" descr=""/>
          <p:cNvPicPr/>
          <p:nvPr/>
        </p:nvPicPr>
        <p:blipFill>
          <a:blip r:embed="rId20"/>
          <a:stretch/>
        </p:blipFill>
        <p:spPr>
          <a:xfrm>
            <a:off x="2987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1"/>
          <a:stretch/>
        </p:blipFill>
        <p:spPr>
          <a:xfrm>
            <a:off x="3995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22"/>
          <a:stretch/>
        </p:blipFill>
        <p:spPr>
          <a:xfrm>
            <a:off x="5219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23"/>
          <a:stretch/>
        </p:blipFill>
        <p:spPr>
          <a:xfrm>
            <a:off x="6227640" y="437976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945" name="Picture 1" descr=""/>
          <p:cNvPicPr/>
          <p:nvPr/>
        </p:nvPicPr>
        <p:blipFill>
          <a:blip r:embed="rId24"/>
          <a:stretch/>
        </p:blipFill>
        <p:spPr>
          <a:xfrm>
            <a:off x="7451640" y="4797360"/>
            <a:ext cx="1081080" cy="12240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5"/>
          <a:stretch/>
        </p:blipFill>
        <p:spPr>
          <a:xfrm>
            <a:off x="8459640" y="4379760"/>
            <a:ext cx="360360" cy="3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1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6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7" name="图片 59410" descr=""/>
          <p:cNvPicPr/>
          <p:nvPr/>
        </p:nvPicPr>
        <p:blipFill>
          <a:blip r:embed="rId1"/>
          <a:stretch/>
        </p:blipFill>
        <p:spPr>
          <a:xfrm>
            <a:off x="480960" y="1224000"/>
            <a:ext cx="8182080" cy="441000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2"/>
          <a:stretch/>
        </p:blipFill>
        <p:spPr>
          <a:xfrm>
            <a:off x="900000" y="1916280"/>
            <a:ext cx="1008000" cy="1873080"/>
          </a:xfrm>
          <a:prstGeom prst="rect">
            <a:avLst/>
          </a:prstGeom>
          <a:ln w="0">
            <a:noFill/>
          </a:ln>
        </p:spPr>
      </p:pic>
      <p:pic>
        <p:nvPicPr>
          <p:cNvPr id="949" name="Picture 1" descr=""/>
          <p:cNvPicPr/>
          <p:nvPr/>
        </p:nvPicPr>
        <p:blipFill>
          <a:blip r:embed="rId3"/>
          <a:stretch/>
        </p:blipFill>
        <p:spPr>
          <a:xfrm>
            <a:off x="2397240" y="134136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4"/>
          <a:stretch/>
        </p:blipFill>
        <p:spPr>
          <a:xfrm>
            <a:off x="3419640" y="174456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5"/>
          <a:stretch/>
        </p:blipFill>
        <p:spPr>
          <a:xfrm>
            <a:off x="5205240" y="134136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6"/>
          <a:stretch/>
        </p:blipFill>
        <p:spPr>
          <a:xfrm>
            <a:off x="6443640" y="1716120"/>
            <a:ext cx="2232000" cy="13683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7"/>
          <a:stretch/>
        </p:blipFill>
        <p:spPr>
          <a:xfrm>
            <a:off x="8229600" y="1312920"/>
            <a:ext cx="358920" cy="318960"/>
          </a:xfrm>
          <a:prstGeom prst="rect">
            <a:avLst/>
          </a:prstGeom>
          <a:ln w="0">
            <a:noFill/>
          </a:ln>
        </p:spPr>
      </p:pic>
      <p:pic>
        <p:nvPicPr>
          <p:cNvPr id="954" name="Picture 1" descr=""/>
          <p:cNvPicPr/>
          <p:nvPr/>
        </p:nvPicPr>
        <p:blipFill>
          <a:blip r:embed="rId8"/>
          <a:stretch/>
        </p:blipFill>
        <p:spPr>
          <a:xfrm>
            <a:off x="1809720" y="4691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9"/>
          <a:stretch/>
        </p:blipFill>
        <p:spPr>
          <a:xfrm>
            <a:off x="4452840" y="467820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10"/>
          <a:stretch/>
        </p:blipFill>
        <p:spPr>
          <a:xfrm>
            <a:off x="7083360" y="46911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11"/>
          <a:stretch/>
        </p:blipFill>
        <p:spPr>
          <a:xfrm>
            <a:off x="1679400" y="5254560"/>
            <a:ext cx="287640" cy="25560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12"/>
          <a:stretch/>
        </p:blipFill>
        <p:spPr>
          <a:xfrm>
            <a:off x="4452840" y="5241960"/>
            <a:ext cx="287280" cy="25560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13"/>
          <a:stretch/>
        </p:blipFill>
        <p:spPr>
          <a:xfrm>
            <a:off x="7080120" y="5254560"/>
            <a:ext cx="287640" cy="25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8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3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0" name="图片 58373" descr=""/>
          <p:cNvPicPr/>
          <p:nvPr/>
        </p:nvPicPr>
        <p:blipFill>
          <a:blip r:embed="rId1"/>
          <a:stretch/>
        </p:blipFill>
        <p:spPr>
          <a:xfrm>
            <a:off x="399960" y="2209680"/>
            <a:ext cx="8344080" cy="243864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1" descr=""/>
          <p:cNvPicPr/>
          <p:nvPr/>
        </p:nvPicPr>
        <p:blipFill>
          <a:blip r:embed="rId2"/>
          <a:stretch/>
        </p:blipFill>
        <p:spPr>
          <a:xfrm>
            <a:off x="1692360" y="3860640"/>
            <a:ext cx="358560" cy="319320"/>
          </a:xfrm>
          <a:prstGeom prst="rect">
            <a:avLst/>
          </a:prstGeom>
          <a:ln w="0">
            <a:noFill/>
          </a:ln>
        </p:spPr>
      </p:pic>
      <p:pic>
        <p:nvPicPr>
          <p:cNvPr id="962" name="Picture 1" descr=""/>
          <p:cNvPicPr/>
          <p:nvPr/>
        </p:nvPicPr>
        <p:blipFill>
          <a:blip r:embed="rId3"/>
          <a:stretch/>
        </p:blipFill>
        <p:spPr>
          <a:xfrm>
            <a:off x="2627280" y="2852640"/>
            <a:ext cx="1152720" cy="165600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" descr=""/>
          <p:cNvPicPr/>
          <p:nvPr/>
        </p:nvPicPr>
        <p:blipFill>
          <a:blip r:embed="rId4"/>
          <a:stretch/>
        </p:blipFill>
        <p:spPr>
          <a:xfrm>
            <a:off x="4716360" y="3852720"/>
            <a:ext cx="358920" cy="3193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1" descr=""/>
          <p:cNvPicPr/>
          <p:nvPr/>
        </p:nvPicPr>
        <p:blipFill>
          <a:blip r:embed="rId5"/>
          <a:stretch/>
        </p:blipFill>
        <p:spPr>
          <a:xfrm>
            <a:off x="5651640" y="2844720"/>
            <a:ext cx="1152360" cy="1656000"/>
          </a:xfrm>
          <a:prstGeom prst="rect">
            <a:avLst/>
          </a:prstGeom>
          <a:ln w="0">
            <a:noFill/>
          </a:ln>
        </p:spPr>
      </p:pic>
      <p:pic>
        <p:nvPicPr>
          <p:cNvPr id="965" name="Picture 1" descr=""/>
          <p:cNvPicPr/>
          <p:nvPr/>
        </p:nvPicPr>
        <p:blipFill>
          <a:blip r:embed="rId6"/>
          <a:stretch/>
        </p:blipFill>
        <p:spPr>
          <a:xfrm>
            <a:off x="7812000" y="3908520"/>
            <a:ext cx="35892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0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0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图片 57352" descr=""/>
          <p:cNvPicPr/>
          <p:nvPr/>
        </p:nvPicPr>
        <p:blipFill>
          <a:blip r:embed="rId1"/>
          <a:stretch/>
        </p:blipFill>
        <p:spPr>
          <a:xfrm>
            <a:off x="552600" y="1490760"/>
            <a:ext cx="8038800" cy="3876480"/>
          </a:xfrm>
          <a:prstGeom prst="rect">
            <a:avLst/>
          </a:prstGeom>
          <a:ln w="0">
            <a:noFill/>
          </a:ln>
        </p:spPr>
      </p:pic>
      <p:pic>
        <p:nvPicPr>
          <p:cNvPr id="967" name="Picture 1" descr=""/>
          <p:cNvPicPr/>
          <p:nvPr/>
        </p:nvPicPr>
        <p:blipFill>
          <a:blip r:embed="rId2"/>
          <a:stretch/>
        </p:blipFill>
        <p:spPr>
          <a:xfrm>
            <a:off x="826920" y="3933720"/>
            <a:ext cx="2808360" cy="31932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1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2808360" cy="31896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1" descr=""/>
          <p:cNvPicPr/>
          <p:nvPr/>
        </p:nvPicPr>
        <p:blipFill>
          <a:blip r:embed="rId4"/>
          <a:stretch/>
        </p:blipFill>
        <p:spPr>
          <a:xfrm>
            <a:off x="755640" y="4619520"/>
            <a:ext cx="2808360" cy="3193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1" descr=""/>
          <p:cNvPicPr/>
          <p:nvPr/>
        </p:nvPicPr>
        <p:blipFill>
          <a:blip r:embed="rId5"/>
          <a:stretch/>
        </p:blipFill>
        <p:spPr>
          <a:xfrm>
            <a:off x="826920" y="4954680"/>
            <a:ext cx="648180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7" dur="500"/>
                                        <p:tgtEl>
                                          <p:spTgt spid="9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2" dur="500"/>
                                        <p:tgtEl>
                                          <p:spTgt spid="9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7" dur="500"/>
                                        <p:tgtEl>
                                          <p:spTgt spid="9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2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图片 56324" descr=""/>
          <p:cNvPicPr/>
          <p:nvPr/>
        </p:nvPicPr>
        <p:blipFill>
          <a:blip r:embed="rId1"/>
          <a:stretch/>
        </p:blipFill>
        <p:spPr>
          <a:xfrm>
            <a:off x="162000" y="1038240"/>
            <a:ext cx="8820000" cy="48387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1" descr=""/>
          <p:cNvPicPr/>
          <p:nvPr/>
        </p:nvPicPr>
        <p:blipFill>
          <a:blip r:embed="rId2"/>
          <a:stretch/>
        </p:blipFill>
        <p:spPr>
          <a:xfrm>
            <a:off x="539640" y="148428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1" descr=""/>
          <p:cNvPicPr/>
          <p:nvPr/>
        </p:nvPicPr>
        <p:blipFill>
          <a:blip r:embed="rId3"/>
          <a:stretch/>
        </p:blipFill>
        <p:spPr>
          <a:xfrm>
            <a:off x="539640" y="17859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1" descr=""/>
          <p:cNvPicPr/>
          <p:nvPr/>
        </p:nvPicPr>
        <p:blipFill>
          <a:blip r:embed="rId4"/>
          <a:stretch/>
        </p:blipFill>
        <p:spPr>
          <a:xfrm>
            <a:off x="395280" y="2133720"/>
            <a:ext cx="4608360" cy="31896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" descr=""/>
          <p:cNvPicPr/>
          <p:nvPr/>
        </p:nvPicPr>
        <p:blipFill>
          <a:blip r:embed="rId5"/>
          <a:stretch/>
        </p:blipFill>
        <p:spPr>
          <a:xfrm>
            <a:off x="5148360" y="42195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" descr=""/>
          <p:cNvPicPr/>
          <p:nvPr/>
        </p:nvPicPr>
        <p:blipFill>
          <a:blip r:embed="rId6"/>
          <a:stretch/>
        </p:blipFill>
        <p:spPr>
          <a:xfrm>
            <a:off x="5148360" y="452124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" descr=""/>
          <p:cNvPicPr/>
          <p:nvPr/>
        </p:nvPicPr>
        <p:blipFill>
          <a:blip r:embed="rId7"/>
          <a:stretch/>
        </p:blipFill>
        <p:spPr>
          <a:xfrm>
            <a:off x="5146560" y="4869000"/>
            <a:ext cx="352908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500"/>
                                        <p:tgtEl>
                                          <p:spTgt spid="9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4" dur="500"/>
                                        <p:tgtEl>
                                          <p:spTgt spid="9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9" dur="500"/>
                                        <p:tgtEl>
                                          <p:spTgt spid="9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9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9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4" dur="500"/>
                                        <p:tgtEl>
                                          <p:spTgt spid="9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8" name="图片 55300" descr=""/>
          <p:cNvPicPr/>
          <p:nvPr/>
        </p:nvPicPr>
        <p:blipFill>
          <a:blip r:embed="rId1"/>
          <a:stretch/>
        </p:blipFill>
        <p:spPr>
          <a:xfrm>
            <a:off x="152280" y="1438200"/>
            <a:ext cx="8839440" cy="398160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" descr=""/>
          <p:cNvPicPr/>
          <p:nvPr/>
        </p:nvPicPr>
        <p:blipFill>
          <a:blip r:embed="rId3"/>
          <a:stretch/>
        </p:blipFill>
        <p:spPr>
          <a:xfrm>
            <a:off x="755640" y="3357720"/>
            <a:ext cx="2592360" cy="31896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" descr=""/>
          <p:cNvPicPr/>
          <p:nvPr/>
        </p:nvPicPr>
        <p:blipFill>
          <a:blip r:embed="rId4"/>
          <a:stretch/>
        </p:blipFill>
        <p:spPr>
          <a:xfrm>
            <a:off x="4932360" y="298440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" descr=""/>
          <p:cNvPicPr/>
          <p:nvPr/>
        </p:nvPicPr>
        <p:blipFill>
          <a:blip r:embed="rId5"/>
          <a:stretch/>
        </p:blipFill>
        <p:spPr>
          <a:xfrm>
            <a:off x="4932360" y="3344760"/>
            <a:ext cx="2160720" cy="31932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" descr=""/>
          <p:cNvPicPr/>
          <p:nvPr/>
        </p:nvPicPr>
        <p:blipFill>
          <a:blip r:embed="rId6"/>
          <a:stretch/>
        </p:blipFill>
        <p:spPr>
          <a:xfrm>
            <a:off x="7164360" y="2971800"/>
            <a:ext cx="1584360" cy="31896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" descr=""/>
          <p:cNvPicPr/>
          <p:nvPr/>
        </p:nvPicPr>
        <p:blipFill>
          <a:blip r:embed="rId7"/>
          <a:stretch/>
        </p:blipFill>
        <p:spPr>
          <a:xfrm>
            <a:off x="539640" y="4365720"/>
            <a:ext cx="4319640" cy="37764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1" descr=""/>
          <p:cNvPicPr/>
          <p:nvPr/>
        </p:nvPicPr>
        <p:blipFill>
          <a:blip r:embed="rId8"/>
          <a:stretch/>
        </p:blipFill>
        <p:spPr>
          <a:xfrm>
            <a:off x="539640" y="4784760"/>
            <a:ext cx="4319640" cy="31896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1" descr=""/>
          <p:cNvPicPr/>
          <p:nvPr/>
        </p:nvPicPr>
        <p:blipFill>
          <a:blip r:embed="rId9"/>
          <a:stretch/>
        </p:blipFill>
        <p:spPr>
          <a:xfrm>
            <a:off x="468360" y="5097600"/>
            <a:ext cx="4319640" cy="31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500"/>
                                        <p:tgtEl>
                                          <p:spTgt spid="9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500"/>
                                        <p:tgtEl>
                                          <p:spTgt spid="9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6" dur="500"/>
                                        <p:tgtEl>
                                          <p:spTgt spid="9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1" dur="500"/>
                                        <p:tgtEl>
                                          <p:spTgt spid="9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6" dur="500"/>
                                        <p:tgtEl>
                                          <p:spTgt spid="9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1" dur="500"/>
                                        <p:tgtEl>
                                          <p:spTgt spid="9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6" dur="500"/>
                                        <p:tgtEl>
                                          <p:spTgt spid="9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9T08:01:0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